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0E3-FCF5-4932-9316-BB71013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C06-19F5-4C4E-8872-249B0132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578-6A3B-463C-AF80-980131CF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FA7-07AA-47B1-A3D5-27EA6ED1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78C-7070-4708-BC7F-5BC66315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8D7-30FC-4F35-9E83-C7EBFD2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B26-95D9-4C1B-931C-9CB45096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883-1D4F-428C-935A-2135C1C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28E-C645-4EF2-B8E2-76CC538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715-1DD5-45E4-B5FA-4262BFD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229-2B04-4CA9-9C0D-2A5083F3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FF3-52EC-49A8-B9E9-CB4223CC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009-C3B1-4F28-8372-9AE770A5D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ting Chart for Au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76720" y="5562720"/>
            <a:ext cx="2133360" cy="9903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1440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440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1440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1440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438280" y="12193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438280" y="228600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438280" y="3352680"/>
            <a:ext cx="8384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36232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6252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6252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038480" y="44197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10080" y="12193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410080" y="228600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410080" y="3352680"/>
            <a:ext cx="8384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10080" y="44197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93432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93432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93432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93432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762120" y="19051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2096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8098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1814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629400" y="19051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8580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209680" y="297180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73392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181480" y="297180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670572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8580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209680" y="403848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809880" y="403848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25780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70572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8580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670572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209680" y="51055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525780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lowchart: Connector 7"/>
          <p:cNvSpPr/>
          <p:nvPr/>
        </p:nvSpPr>
        <p:spPr>
          <a:xfrm>
            <a:off x="845820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lowchart: Connector 8"/>
          <p:cNvSpPr/>
          <p:nvPr/>
        </p:nvSpPr>
        <p:spPr>
          <a:xfrm>
            <a:off x="78487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lowchart: Connector 9"/>
          <p:cNvSpPr/>
          <p:nvPr/>
        </p:nvSpPr>
        <p:spPr>
          <a:xfrm>
            <a:off x="723888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lowchart: Connector 10"/>
          <p:cNvSpPr/>
          <p:nvPr/>
        </p:nvSpPr>
        <p:spPr>
          <a:xfrm>
            <a:off x="22860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lowchart: Connector 11"/>
          <p:cNvSpPr/>
          <p:nvPr/>
        </p:nvSpPr>
        <p:spPr>
          <a:xfrm>
            <a:off x="83808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lowchart: Connector 12"/>
          <p:cNvSpPr/>
          <p:nvPr/>
        </p:nvSpPr>
        <p:spPr>
          <a:xfrm>
            <a:off x="14479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lowchart: Connector 13"/>
          <p:cNvSpPr/>
          <p:nvPr/>
        </p:nvSpPr>
        <p:spPr>
          <a:xfrm>
            <a:off x="67057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ectangle 11" descr=""/>
          <p:cNvPicPr/>
          <p:nvPr/>
        </p:nvPicPr>
        <p:blipFill>
          <a:blip r:embed="rId1"/>
          <a:stretch/>
        </p:blipFill>
        <p:spPr>
          <a:xfrm>
            <a:off x="1901880" y="285840"/>
            <a:ext cx="4711680" cy="109836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13" descr=""/>
          <p:cNvPicPr/>
          <p:nvPr/>
        </p:nvPicPr>
        <p:blipFill>
          <a:blip r:embed="rId2"/>
          <a:stretch/>
        </p:blipFill>
        <p:spPr>
          <a:xfrm>
            <a:off x="865080" y="1427040"/>
            <a:ext cx="677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23:33:22Z</dcterms:created>
  <dc:creator>ray</dc:creator>
  <dc:description/>
  <dc:language>en-US</dc:language>
  <cp:lastModifiedBy> </cp:lastModifiedBy>
  <cp:lastPrinted>1999-03-15T17:47:52Z</cp:lastPrinted>
  <dcterms:modified xsi:type="dcterms:W3CDTF">2010-12-06T19:04:55Z</dcterms:modified>
  <cp:revision>7</cp:revision>
  <dc:subject/>
  <dc:title>How to Create a Chart</dc:title>
</cp:coreProperties>
</file>